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1F14-220C-447D-AD67-BC6D83FECE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F75C-FF01-41DB-97B2-544F233D09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8AA8-6560-46DA-9806-88953D64EA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EC4B-0434-46F1-A1BD-C53DA99AD7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855A-9A86-4AF2-99CA-A5A06E8992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B2F-9665-4586-A056-E9DF5DF1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787-920C-45AC-B996-AA50551A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3CB-10F9-40B3-ACBF-ECEFC6B8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A2A-AB7F-498F-8239-2F9AB5B3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90C-BB6A-4B33-AA82-6F07F839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37D-5FEA-4FE3-9F3B-273773C8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F31-8DB3-4668-B530-BDFA6FC4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4B6-6E82-4DC8-A837-1BD4E04C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2F5D-8E93-4079-B08F-5F6429AB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359-3604-42C4-8B34-B89CBA01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6637-9BF2-470F-B524-27B4E9B4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A2C-2C50-46E9-9055-667FA466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DA9D-6712-4878-8CFE-71FB37953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Soit la fonction suivante :</a:t>
            </a:r>
            <a:br>
              <a:rPr sz="2200"/>
            </a:b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oyenne(int tab[ ], int dim)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 int i , sum = 0;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0;i&lt;dim;i++) {sum=sum+tab[i];}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%lf\n",1.0*sum/dim);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2200"/>
            </a:br>
            <a:br>
              <a:rPr sz="22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Quelles sont la ou les propositions correctes :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La fonction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yenn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…</a:t>
            </a:r>
            <a:br>
              <a:rPr sz="2400"/>
            </a:b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99640" y="4292280"/>
            <a:ext cx="75596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nvoie la moyenne d’un tableau d’ent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ffiche la moyenne d’un tableau d’ent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e renvoie ri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nvoie la moyenne d’un tableau d’ent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oneTexte 3"/>
          <p:cNvSpPr/>
          <p:nvPr/>
        </p:nvSpPr>
        <p:spPr>
          <a:xfrm>
            <a:off x="115560" y="115920"/>
            <a:ext cx="14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QCM n°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IOGS 1A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ouhaite faire l’affichage d’un tableau de double.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els sont les prototypes correct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4920" y="2852280"/>
            <a:ext cx="84978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ffiche_tab(double tab, int dim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ffiche_tab(double tab[ ]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ffiche_tab(double tab[], int dim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ffiche_tab(double tab[ ], int dim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s besoin de prototype, on fait directement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</a:t>
            </a:r>
            <a:r>
              <a:rPr b="0" lang="fr-FR" sz="2400" spc="-1" strike="noStrike">
                <a:solidFill>
                  <a:srgbClr val="898989"/>
                </a:solidFill>
                <a:latin typeface="Courier New"/>
                <a:ea typeface="Courier New"/>
              </a:rPr>
              <a:t>"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%lf</a:t>
            </a:r>
            <a:r>
              <a:rPr b="0" lang="fr-FR" sz="2400" spc="-1" strike="noStrike">
                <a:solidFill>
                  <a:srgbClr val="898989"/>
                </a:solidFill>
                <a:latin typeface="Courier New"/>
                <a:ea typeface="Courier New"/>
              </a:rPr>
              <a:t>"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tab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quelles de ces déclarations de fonctions sont correctes si elles sont sensées calculer « x » élevé à la puissance « n » entière 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55240" y="3886200"/>
            <a:ext cx="701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) double puissance (double x, int n) 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) puissance (double x, int n) 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) void puissance (double x, int n) 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) puissance() 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Soit le prototype de la fonction maximum : 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ximum(int tab[], int dim);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On définit le tableau suivant :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[5] = {1, 5, 3, 8, 3};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et la variable suivante : </a:t>
            </a: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x ;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Quels sont les appels corrects à la fonction </a:t>
            </a: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7192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</a:t>
            </a:r>
            <a:r>
              <a:rPr b="0" lang="fr-FR" sz="2000" spc="-1" strike="noStrike">
                <a:solidFill>
                  <a:srgbClr val="898989"/>
                </a:solidFill>
                <a:latin typeface="Courier New"/>
                <a:ea typeface="Courier New"/>
              </a:rPr>
              <a:t>"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d\n</a:t>
            </a:r>
            <a:r>
              <a:rPr b="0" lang="fr-FR" sz="2000" spc="-1" strike="noStrike">
                <a:solidFill>
                  <a:srgbClr val="898989"/>
                </a:solidFill>
                <a:latin typeface="Courier New"/>
                <a:ea typeface="Courier New"/>
              </a:rPr>
              <a:t>"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maximum(t, 5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maximum(t, 5)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maximum(t[5], 5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maximum(int t[], int dim)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2[3]={3,4,8} ; max = maximum(T2,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4T11:57:45Z</dcterms:created>
  <dc:creator>Sylvie Lebrun</dc:creator>
  <dc:description/>
  <dc:language>en-US</dc:language>
  <cp:lastModifiedBy>Lebrun Sylvie</cp:lastModifiedBy>
  <dcterms:modified xsi:type="dcterms:W3CDTF">2021-10-11T10:51:21Z</dcterms:modified>
  <cp:revision>14</cp:revision>
  <dc:subject/>
  <dc:title>Que fait la fonction suivante :  void moyenne(int tab[ ], int dim) { int i , sum = 0; for (i=0;i&lt;dim;i++) sum=sum+tab[i]; printf(« %d\n »,1.0*sum/dim; }</dc:title>
</cp:coreProperties>
</file>