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F72-CD83-4295-BB0F-E92EC06D93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5BC6-ABAD-4AEB-B471-BDE316CF5E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E5AD-68E9-4A6D-BAC6-4F373001BC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29ED-742F-4821-A8C4-E41B9E6F8F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04B-6A38-4EB5-BFF8-03B78008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82D-3919-40B5-9613-08422061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AE1-EB47-4B86-A277-36DFA46D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E62-871F-4261-BCDA-B93D19A2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772-66C7-4E8C-9B0B-EE9D5B99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A1C-CDB1-459F-B8E6-8D0349B4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D71-24D1-42D9-ACED-3D352858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28E-9907-44B0-93D0-28B93ACB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327-B438-4D1D-984F-5AF1BB9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CA0-262F-4537-98B7-6E60A0A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A15-5516-44C5-88BA-08EDCDD6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C51-5404-46B4-B466-D542090D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FD63-6B93-4E17-AC54-791876DF5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afficher un tableau d’entiers tab en C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l existe une fonction qui permet de faire cela : 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printf(tab)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l existe une fonction qui permet de faire cela 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: printf(" %d ",tab);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l faut faire une boucle for et afficher les composantes une par 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920" y="134100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elles sont les façons correctes de déclarer un tableau de doubl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double tab[5*6]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#define N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1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double tab[N]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#define N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100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double tab[N]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nt n ; double tab[n]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79200" y="1844640"/>
            <a:ext cx="704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rai ou faux ? Le programme suivant affiche 10 nombres aléatoires différents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nt i 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for (i=0 ;i&lt;10 ;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srand(time(0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printf("%d\n",rand());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return 0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30T19:21:58Z</dcterms:created>
  <dc:creator>Sylvie Lebrun</dc:creator>
  <dc:description/>
  <dc:language>en-US</dc:language>
  <cp:lastModifiedBy>Sylvie Lebrun</cp:lastModifiedBy>
  <dcterms:modified xsi:type="dcterms:W3CDTF">2018-10-05T14:26:41Z</dcterms:modified>
  <cp:revision>3</cp:revision>
  <dc:subject/>
  <dc:title>Question 1</dc:title>
</cp:coreProperties>
</file>