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715-0A26-431D-9D47-FED87EF8E1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12C9-BF5D-409E-BE35-5E068786FDB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966-B9D3-4B22-A79A-97E2E302378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4C1B-E22E-488C-875C-DD4DABBFD44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8E7-D859-42E8-A7B2-F4DC6878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93F-60F5-4F40-83A6-770C71E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06F-209E-44B0-9D9C-7C30DACC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4C9-69DB-45F4-8398-A338A630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FC8-8A80-45CA-89E0-292537B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66E-F1CD-4561-9458-66145668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F0E-0D52-4461-840D-01BBF2E0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4BB-FA06-43A1-92B0-864D77F6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7DA-0AA3-4D65-BEC1-78EDA426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8CD-5F4B-40E0-9876-266937F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80D-CF53-43D9-8E8A-D54D176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1D3-5789-4C28-8B18-77A7495D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5D7-CEA3-4694-B88E-BFE8D50D6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CM Point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1137960" y="1773360"/>
            <a:ext cx="5842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stion 1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it la déclaration suivante : int tab[5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le est l’adresse de ce tableau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&amp;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&amp;tab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*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CM Point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3"/>
          <p:cNvSpPr/>
          <p:nvPr/>
        </p:nvSpPr>
        <p:spPr>
          <a:xfrm>
            <a:off x="1116000" y="177336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stion 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it la déclaration suivante : double tab[5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’adresse du tableau est 0x02A0, quelle est l’adresse de tab[2]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0x02A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0x02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0x02A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0x02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CM Point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3"/>
          <p:cNvSpPr/>
          <p:nvPr/>
        </p:nvSpPr>
        <p:spPr>
          <a:xfrm>
            <a:off x="1116000" y="177336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stion 3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it la déclaration suivante : int* p_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ment initialiser p_x correcte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 x=5 ; *p_x=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 x=5 ; &amp;p_x=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 x=5 ; p_x=&amp;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 x ; p_x=&amp;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20:18:09Z</dcterms:created>
  <dc:creator>Sylvie Lebrun</dc:creator>
  <dc:description/>
  <dc:language>en-US</dc:language>
  <cp:lastModifiedBy>Lebrun Sylvie</cp:lastModifiedBy>
  <dcterms:modified xsi:type="dcterms:W3CDTF">2021-11-08T08:54:15Z</dcterms:modified>
  <cp:revision>4</cp:revision>
  <dc:subject/>
  <dc:title>QCM Pointeurs</dc:title>
</cp:coreProperties>
</file>