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3879-1225-4B6F-8A8F-7338B276860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6A25-A4B9-4E23-B4EC-E4A6BDE52C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F574-1B6D-4F6D-95E3-865D011DD34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63C5-7AC3-4AA9-9EFD-CFC5C3E9878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FECC-16E2-4DA7-982F-D61887B8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FBC2-2389-481B-A768-EE7F353E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48C6-2631-485F-9D1B-AB417CAF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63A9-67BB-47B2-92ED-89A49C97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2249-A239-4C0D-B2A3-AF34341D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9F96-F312-434D-9E0C-A7F8DDAC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3067-19D1-48C5-9822-C728CDB0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E638-77B7-42DD-BC93-507EF36B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A841-E281-4A2B-B315-2D685AF3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E4C4-D2B8-4E82-8DD9-D226516A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97DF-BCC3-4C60-955E-6F4F6F13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7CB2-0B78-4A83-A37F-D9E2D962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FC7C-0724-47B1-B4D0-FFF9AA6C4C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77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elle est la valeur de S après exécution des instructions suivantes 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int i 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int S=0 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for (i=1 ; i&lt;6 ; i=i+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S=S+i 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1)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2)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3) 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4) 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32000" y="184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’affichent les instructions suivantes 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int i=10 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while (i&gt;0)</a:t>
            </a: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i=i-4 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printf("%d   ",i) 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1 0 6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6 2 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6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’est une boucle infi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619280" y="1341000"/>
            <a:ext cx="7416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e valent les composantes du tableau </a:t>
            </a: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tab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et la variable </a:t>
            </a: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compteur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après ces lignes d’instructions 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int tab[5]={-6,8,9,0,-5} 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int i, compteur=0 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for (i=0 ;i&lt;5 ;i+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if (tab[i]&lt;0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tab[i]=-tab[i] 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else tab[i]=5 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compteur++ 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) {5,6,5,0,5} et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) {5,8,9,0,5} e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) {6,5,5,5,5} et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) {6,5,5,5,5} e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30T19:21:58Z</dcterms:created>
  <dc:creator>Sylvie Lebrun</dc:creator>
  <dc:description/>
  <dc:language>en-US</dc:language>
  <cp:lastModifiedBy>Sylvie Lebrun</cp:lastModifiedBy>
  <dcterms:modified xsi:type="dcterms:W3CDTF">2018-09-30T19:34:42Z</dcterms:modified>
  <cp:revision>2</cp:revision>
  <dc:subject/>
  <dc:title>Question 1</dc:title>
</cp:coreProperties>
</file>