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4A12-D7F5-43EC-8688-044A931236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D6E5-1344-45A6-A11A-E8D70E2824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850D-C45C-4F7D-A46B-D2A5FEF384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CBA3-33FD-44B2-8F24-F96A7549B8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11C-8FF4-4323-99AE-94555451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5ACF-B121-43E2-B371-A7A06E85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F2CE-B84C-421B-B27D-93FF9AE0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320-28F5-4F0C-B23C-9BFC9B77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61B-D501-4C45-9E7B-1B7EAE70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FEC8-F481-4856-AAA0-C2AB2AB7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C058-717D-4708-B37C-20DA2935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9D27-9364-41A1-9B5D-4440F1F0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193B-18D7-4EBC-9412-02ADF70F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B2D-F5B9-4E42-BED6-464807FA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841-9CC2-4B94-B3C1-CDC7E176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E9C-86AE-44D9-9853-723A9252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4DC2-8786-43E7-9710-34B5F6C5B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uestion 1 :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projet en C peut contenir :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) plusieurs fonctions mai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) 0 fonction main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) 1 seule fonction mai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2"/>
          <p:cNvSpPr/>
          <p:nvPr/>
        </p:nvSpPr>
        <p:spPr>
          <a:xfrm>
            <a:off x="8106120" y="115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uestion 2 :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uelle est la bonne syntaxe 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 ;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("%d",&amp;a) ;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(%d, "&amp;a") ;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("%lf",&amp;a) ;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("%d",a) ;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uestion 3 :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u’affiche l’instruction suivante :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j’aime le C %d fois", 30/20) ;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) j’aime le C 0 foi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) j’aime le C 1 foi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) j’aime le C 1.5 foi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4) je n’aime pas le C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30T09:58:45Z</dcterms:created>
  <dc:creator>Sylvie Lebrun</dc:creator>
  <dc:description/>
  <dc:language>en-US</dc:language>
  <cp:lastModifiedBy>Sylvie Lebrun</cp:lastModifiedBy>
  <dcterms:modified xsi:type="dcterms:W3CDTF">2018-09-17T10:51:57Z</dcterms:modified>
  <cp:revision>2</cp:revision>
  <dc:subject/>
  <dc:title>Question 1 : Un projet en C peut contenir :   1) plusieurs fonctions main 2) 0 fonction main  3) 1 seule fonction main</dc:title>
</cp:coreProperties>
</file>