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3D5F-503D-4726-8C00-BFFA9AC53E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95A8-8F35-4AFE-BE88-26C5A06C5C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EE86-40D3-43CF-9054-FC301162FD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82B-4408-4E4A-955F-066398BE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825-7BAE-41AD-BA54-70E604CA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78B-0835-4AF0-AFA9-92F4D515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794E-94DC-4606-8501-033E9FED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42B-B003-43BF-AA50-BF917829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F46-7EEE-4510-B4FF-19B6620D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344-140C-4065-B105-3DEBF632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488-A61C-47D6-8C02-A7EE58F5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01F-7677-400A-A19D-1C87A57B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056-313F-4895-A03D-C0A2906F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AE4-B9FD-4B11-98AD-E6FAEE9C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A15-89CE-4CAA-956E-315CDB47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F5A8-007F-4C00-9625-2212B69A6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3"/>
          <p:cNvSpPr/>
          <p:nvPr/>
        </p:nvSpPr>
        <p:spPr>
          <a:xfrm>
            <a:off x="826920" y="765000"/>
            <a:ext cx="8137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it le pointeur de fichier défini par FILE *fp ; on veut ouvrir le fichier " C:/Mesdocuments/essai.txt " en mode écriture. Quelles sont les propositions correctes 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1) fp=fopen("C:/Mesdocuments/essai.txt ", "w")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2) fp=fopen(C:/Mesdocuments/essai.txt, "w")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3) le fichier  "C:/Mesdocuments/essai.txt " doit exi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4) Si le fichier  "C:/Mesdocuments/essai.txt " n’existe pas, il est cré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4"/>
          <p:cNvSpPr/>
          <p:nvPr/>
        </p:nvSpPr>
        <p:spPr>
          <a:xfrm>
            <a:off x="826920" y="3807000"/>
            <a:ext cx="8137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it le pointeur de fichier défini par FILE *fp ; on veut ouvrir le fichier " C:/Mesdocuments/essai.txt " en mode lecture. Quelles sont les propositions correctes 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1) fp=fopen("C:/Mesdocuments/essai.txt ", "r")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2) fp=fopen(C:/Mesdocuments/essai.txt, "r")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3) le fichier  "C:/Mesdocuments/essai.txt " doit exi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4) Si le fichier  "C:/Mesdocuments/essai.txt" n’existe pas, il est cré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oneTexte 5"/>
          <p:cNvSpPr/>
          <p:nvPr/>
        </p:nvSpPr>
        <p:spPr>
          <a:xfrm>
            <a:off x="4110480" y="189000"/>
            <a:ext cx="10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CM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1"/>
          <p:cNvSpPr/>
          <p:nvPr/>
        </p:nvSpPr>
        <p:spPr>
          <a:xfrm>
            <a:off x="1332000" y="404640"/>
            <a:ext cx="52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ns un fichier d’entête .h on met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1) Les définitions des fo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2) Les prototypes des fo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2"/>
          <p:cNvSpPr/>
          <p:nvPr/>
        </p:nvSpPr>
        <p:spPr>
          <a:xfrm>
            <a:off x="1332000" y="2060640"/>
            <a:ext cx="52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ns un fichier source .c on met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1) Les définitions des fo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2) Les prototypes des fo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3"/>
          <p:cNvSpPr/>
          <p:nvPr/>
        </p:nvSpPr>
        <p:spPr>
          <a:xfrm>
            <a:off x="1332000" y="3728880"/>
            <a:ext cx="67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 prototype d’une fonction écrivant un tableau d’entiers dans un fichier au format texte serait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d  ecrit_tab(FILE *f , int tab[ ] , int dim )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t ecrit_tab(char nom_fichier , int tab[ ] , int dim )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3)   void  ecrit_tab(char nom_fichier[ ] , int tab[ ] , int dim )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1T18:05:07Z</dcterms:created>
  <dc:creator>Sylvie Lebrun</dc:creator>
  <dc:description/>
  <dc:language>en-US</dc:language>
  <cp:lastModifiedBy>Sylvie Lebrun</cp:lastModifiedBy>
  <dcterms:modified xsi:type="dcterms:W3CDTF">2018-10-21T19:17:10Z</dcterms:modified>
  <cp:revision>3</cp:revision>
  <dc:subject/>
  <dc:title>Diapositive 1</dc:title>
</cp:coreProperties>
</file>